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D967-DC70-44E5-823E-859BB4B0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9E7-44A7-4357-A554-A3655F18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41A9-A924-495B-A0E9-AC117FBE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6D5-C795-4E2D-AA80-C33493B8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99D-72E1-4D41-B3F2-D736F308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831-FDF2-4648-86CC-CDBF2FA2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DF5-87C0-48B8-B0A6-7CE7C2DD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5BF6-4893-4831-8309-219392CE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4DA-0DDB-430A-911C-48563E54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6C7-9256-4195-8C55-B410AAA4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763E-A837-40A6-9BF7-BBBBFD66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563-A4E6-425C-BF1B-17E132C7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3258-C786-442C-BA0A-97B84A97D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58920" y="1557360"/>
            <a:ext cx="6481800" cy="2448000"/>
            <a:chOff x="1258920" y="1557360"/>
            <a:chExt cx="6481800" cy="2448000"/>
          </a:xfrm>
        </p:grpSpPr>
        <p:sp>
          <p:nvSpPr>
            <p:cNvPr id="42" name=""/>
            <p:cNvSpPr/>
            <p:nvPr/>
          </p:nvSpPr>
          <p:spPr>
            <a:xfrm>
              <a:off x="1258920" y="1557360"/>
              <a:ext cx="648180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403280" y="1773360"/>
              <a:ext cx="1297080" cy="20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perat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pp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03640" y="1773360"/>
              <a:ext cx="251928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l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300720" y="1773360"/>
              <a:ext cx="1297080" cy="1942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lac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05080" y="3357720"/>
              <a:ext cx="251928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00360" y="191628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00360" y="357336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724000" y="1916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724000" y="3500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35280" y="2205000"/>
              <a:ext cx="1873440" cy="1152720"/>
            </a:xfrm>
            <a:prstGeom prst="downArrowCallout">
              <a:avLst>
                <a:gd name="adj1" fmla="val 40635"/>
                <a:gd name="adj2" fmla="val 40631"/>
                <a:gd name="adj3" fmla="val 16667"/>
                <a:gd name="adj4" fmla="val 6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Relations to C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8:27:24Z</dcterms:created>
  <dc:creator>ekine</dc:creator>
  <dc:description/>
  <dc:language>en-US</dc:language>
  <cp:lastModifiedBy>Waldelfe</cp:lastModifiedBy>
  <dcterms:modified xsi:type="dcterms:W3CDTF">2007-05-11T13:39:23Z</dcterms:modified>
  <cp:revision>3</cp:revision>
  <dc:subject/>
  <dc:title>Folie 1</dc:title>
</cp:coreProperties>
</file>